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C57-E976-4387-B56C-146D1AC4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F4F-6806-4080-9198-F598DE31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DC2-8F24-46EE-9B06-50185879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0C4-3975-48EE-B234-B17D3510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4CEE-56B3-438C-A7A0-59569522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4633-3339-44C4-AB96-3F030FFA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5308-D50E-4B51-B946-4C8896EA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8402-2848-4C0F-B46F-B5736B1B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9BB5-2C55-4C30-9AED-46334CC9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1A80-8755-4CCF-9AF8-0F1D3A77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88CA-DA12-4557-B7CC-20C44A22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EEF-31CD-4A37-8AA3-480CD755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B1E9-92D0-4F24-AEC1-663AEF80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9014-B389-41D1-B51D-87EA0CC8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36B3-BD31-4749-9CF2-A86DFA53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37C1-629A-4981-856A-9091051B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3651-2D6A-42A4-B8E2-75436688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BF3-B61F-4847-9573-B44073B5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1D1-7D48-48D5-8A48-D1A405D2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404-EC97-4E13-B9EC-CA5E1BA4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42C-AE5E-4DCD-8E7F-64E03DE7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1B4-FA1F-462E-8D5F-2A1AA3A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647-3C98-447A-9F38-60ABA0ED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2660-9DD6-4A44-9DB9-1F310172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0FCD-DE69-4153-A207-B545609DF8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91D8-CA6A-48BB-B4A0-B535275D79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unninghampeanuts.com/100_0168.JPG/100_0168-full;init:.JPG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coastgis.marsci.uga.edu/summit/climatemtn.htm" TargetMode="External"/><Relationship Id="rId2" Type="http://schemas.openxmlformats.org/officeDocument/2006/relationships/hyperlink" Target="http://coastgis.marsci.uga.edu/summit/climatecoast.htm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rm Up Preparatio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nell note sty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line in middle of p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7656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hat region is the state of Georgia located in within the United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668840" y="355140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8412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hat region is the state of Georgia located in within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0" y="3124080"/>
            <a:ext cx="4876920" cy="3124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4038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S8G1 b.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53388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592000"/>
            <a:ext cx="777240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What is a reg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A </a:t>
            </a:r>
            <a:r>
              <a:rPr b="1" i="1" lang="en-US" sz="4400" spc="-1" strike="noStrike">
                <a:solidFill>
                  <a:srgbClr val="92d050"/>
                </a:solidFill>
                <a:latin typeface="Arial"/>
              </a:rPr>
              <a:t>region</a:t>
            </a:r>
            <a:r>
              <a:rPr b="0" lang="en-US" sz="4400" spc="-1" strike="noStrike">
                <a:solidFill>
                  <a:srgbClr val="92d050"/>
                </a:solidFill>
                <a:latin typeface="Arial"/>
              </a:rPr>
              <a:t> is the basic unit of study in geograph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b0f0"/>
                </a:solidFill>
                <a:uFillTx/>
                <a:latin typeface="Times New Roman"/>
              </a:rPr>
              <a:t>Georgia’s 5 physiographic region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1) The Appalachian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2) The Ridge &amp; Valley          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3) The Blue Ridg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4) The Piedmont 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5) The Coastal 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m-9031"/>
          <p:cNvPicPr/>
          <p:nvPr/>
        </p:nvPicPr>
        <p:blipFill>
          <a:blip r:embed="rId1"/>
          <a:stretch/>
        </p:blipFill>
        <p:spPr>
          <a:xfrm>
            <a:off x="4419720" y="1143000"/>
            <a:ext cx="4267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38412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2058480"/>
            <a:ext cx="35258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Appalachian Platea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Small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maze of limestone caves, deep canyons, and interesting ro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northwestern corner of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m-9410"/>
          <p:cNvPicPr/>
          <p:nvPr/>
        </p:nvPicPr>
        <p:blipFill>
          <a:blip r:embed="rId1"/>
          <a:stretch/>
        </p:blipFill>
        <p:spPr>
          <a:xfrm>
            <a:off x="4419720" y="2362320"/>
            <a:ext cx="4419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Ridge and </a:t>
            </a:r>
            <a:br>
              <a:rPr sz="2800"/>
            </a:b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Val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low open valleys and narrow ridges that run parallel to the valle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2d050"/>
                </a:solidFill>
                <a:latin typeface="Arial"/>
              </a:rPr>
              <a:t>Forests &amp; pastures dominate the region, but there are flat and fertile farmlan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16240" y="2363760"/>
            <a:ext cx="367020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400px-Bristol_tenn_ridgelines2"/>
          <p:cNvPicPr/>
          <p:nvPr/>
        </p:nvPicPr>
        <p:blipFill>
          <a:blip r:embed="rId1"/>
          <a:stretch/>
        </p:blipFill>
        <p:spPr>
          <a:xfrm>
            <a:off x="4572000" y="2514600"/>
            <a:ext cx="4267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 Ridge Reg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for its rugged beau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northeastern 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92d050"/>
                </a:solidFill>
                <a:uFillTx/>
                <a:latin typeface="Arial"/>
              </a:rPr>
              <a:t>highest and largest group of mountains in Georgia is in thi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71520" y="2287440"/>
            <a:ext cx="381492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blue_ridge_nc"/>
          <p:cNvPicPr/>
          <p:nvPr/>
        </p:nvPicPr>
        <p:blipFill>
          <a:blip r:embed="rId1"/>
          <a:stretch/>
        </p:blipFill>
        <p:spPr>
          <a:xfrm>
            <a:off x="4343400" y="228600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9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437920"/>
            <a:ext cx="3505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 Ridge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2d050"/>
                </a:solidFill>
                <a:latin typeface="Arial"/>
              </a:rPr>
              <a:t>Brasstown Bald, the highest peak in the stat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is located in this region. (Almost 5000 ft. hig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871520" y="2440080"/>
            <a:ext cx="3814920" cy="36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10004635fit_brasstown_bald_blairsville"/>
          <p:cNvPicPr/>
          <p:nvPr/>
        </p:nvPicPr>
        <p:blipFill>
          <a:blip r:embed="rId1"/>
          <a:stretch/>
        </p:blipFill>
        <p:spPr>
          <a:xfrm>
            <a:off x="4419720" y="2286000"/>
            <a:ext cx="4190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830240"/>
            <a:ext cx="35258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dmo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2d050"/>
                </a:solidFill>
                <a:latin typeface="Arial"/>
              </a:rPr>
              <a:t>Begins in the mountain foothills of GA and goes to the central part of th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granite-based landform makes up about 1/3 of the state’s land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2d050"/>
                </a:solidFill>
                <a:uFillTx/>
                <a:latin typeface="Arial"/>
              </a:rPr>
              <a:t>About ½ of the state’s population lives in the Piedmont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871520" y="1599840"/>
            <a:ext cx="3814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434304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map-piedmont"/>
          <p:cNvPicPr/>
          <p:nvPr/>
        </p:nvPicPr>
        <p:blipFill>
          <a:blip r:embed="rId1"/>
          <a:stretch/>
        </p:blipFill>
        <p:spPr>
          <a:xfrm>
            <a:off x="6248520" y="1523880"/>
            <a:ext cx="2450880" cy="2667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AtlantaNight"/>
          <p:cNvPicPr/>
          <p:nvPr/>
        </p:nvPicPr>
        <p:blipFill>
          <a:blip r:embed="rId2"/>
          <a:stretch/>
        </p:blipFill>
        <p:spPr>
          <a:xfrm>
            <a:off x="4191120" y="4343400"/>
            <a:ext cx="37335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Unit 1 Geograph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7086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ia Performance Standard (G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8G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udent will descri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Georgia with regar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physical features and 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SS8G1 b.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 Describe the five geographic regions of Georgia, include the Blue Ridge Mountains, Ridge and Valley, Appalachian Plateau, Piedmont, and Coastal Plain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astal Pl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2d050"/>
                </a:solidFill>
                <a:uFillTx/>
                <a:latin typeface="Arial"/>
              </a:rPr>
              <a:t>Largest reg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ies three-fifths of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92d050"/>
                </a:solidFill>
                <a:uFillTx/>
                <a:latin typeface="Arial"/>
              </a:rPr>
              <a:t>major agricultural region of the stat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oil that varies from limestone to c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The Coastal Plain region is separated from the Piedmont Plateau by a natural boundary known as the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Arial"/>
              </a:rPr>
              <a:t>Fall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871520" y="1904760"/>
            <a:ext cx="381492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43430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400,3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905120"/>
            <a:ext cx="4114800" cy="2247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CoastalPlainSandySoil"/>
          <p:cNvPicPr/>
          <p:nvPr/>
        </p:nvPicPr>
        <p:blipFill>
          <a:blip r:embed="rId3"/>
          <a:stretch/>
        </p:blipFill>
        <p:spPr>
          <a:xfrm>
            <a:off x="4648320" y="4267080"/>
            <a:ext cx="41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son part 2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br>
              <a:rPr sz="2100"/>
            </a:b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ll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Separates the Piedmont and Coastal pl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boundary about 20 miles wide that runs across Geor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led Fall Line due to its many water fa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jor Cities along Fall 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1. Augu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2. Mac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3. Columb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4. Milledgevil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800240" y="2514240"/>
            <a:ext cx="381492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449532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m-9800"/>
          <p:cNvPicPr/>
          <p:nvPr/>
        </p:nvPicPr>
        <p:blipFill>
          <a:blip r:embed="rId1"/>
          <a:stretch/>
        </p:blipFill>
        <p:spPr>
          <a:xfrm>
            <a:off x="4648320" y="2057400"/>
            <a:ext cx="4305240" cy="2438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MapofGeorgia"/>
          <p:cNvPicPr/>
          <p:nvPr/>
        </p:nvPicPr>
        <p:blipFill>
          <a:blip r:embed="rId2"/>
          <a:stretch/>
        </p:blipFill>
        <p:spPr>
          <a:xfrm>
            <a:off x="5334120" y="4572000"/>
            <a:ext cx="3124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327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efenokee Sw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ed in the 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southeast corner of 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largest swamp in North America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Almost covers 700 m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 to more than 400 species of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ecame the Okefenokee National Wildlife Refuge in 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71520" y="2287080"/>
            <a:ext cx="3814920" cy="32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92883-004-0A824BDA"/>
          <p:cNvPicPr/>
          <p:nvPr/>
        </p:nvPicPr>
        <p:blipFill>
          <a:blip r:embed="rId1"/>
          <a:stretch/>
        </p:blipFill>
        <p:spPr>
          <a:xfrm>
            <a:off x="3581280" y="2209680"/>
            <a:ext cx="2438640" cy="1627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okefenokee-swamp-gaok2"/>
          <p:cNvPicPr/>
          <p:nvPr/>
        </p:nvPicPr>
        <p:blipFill>
          <a:blip r:embed="rId2"/>
          <a:stretch/>
        </p:blipFill>
        <p:spPr>
          <a:xfrm>
            <a:off x="6400800" y="2209680"/>
            <a:ext cx="2438280" cy="1629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300px-Okefenokeelocatormap"/>
          <p:cNvPicPr/>
          <p:nvPr/>
        </p:nvPicPr>
        <p:blipFill>
          <a:blip r:embed="rId3"/>
          <a:stretch/>
        </p:blipFill>
        <p:spPr>
          <a:xfrm>
            <a:off x="3505320" y="38862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004aTA-11542884"/>
          <p:cNvPicPr/>
          <p:nvPr/>
        </p:nvPicPr>
        <p:blipFill>
          <a:blip r:embed="rId4"/>
          <a:stretch/>
        </p:blipFill>
        <p:spPr>
          <a:xfrm>
            <a:off x="6248520" y="403848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alachian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Southernmost part of the Appalachian Mountains are the Blue Ridge Mountai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GA’s highest and wettest are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(over 80 inches of annual rainfa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32240" y="2363760"/>
            <a:ext cx="345456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gacolor"/>
          <p:cNvPicPr/>
          <p:nvPr/>
        </p:nvPicPr>
        <p:blipFill>
          <a:blip r:embed="rId1"/>
          <a:stretch/>
        </p:blipFill>
        <p:spPr>
          <a:xfrm>
            <a:off x="4876920" y="2286000"/>
            <a:ext cx="387828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Appalachian Mountains (cont.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rest (top) of the mountains form the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ontinental Div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Divides the direction in which rivers d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 flowing rivers empty into the Gulf of 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t flowing rivers empty into the 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871520" y="1905120"/>
            <a:ext cx="381492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the-appalachians0"/>
          <p:cNvPicPr/>
          <p:nvPr/>
        </p:nvPicPr>
        <p:blipFill>
          <a:blip r:embed="rId1"/>
          <a:stretch/>
        </p:blipFill>
        <p:spPr>
          <a:xfrm>
            <a:off x="4038480" y="1295280"/>
            <a:ext cx="3657600" cy="261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US43_AJE0071_M-FB"/>
          <p:cNvPicPr/>
          <p:nvPr/>
        </p:nvPicPr>
        <p:blipFill>
          <a:blip r:embed="rId2"/>
          <a:stretch/>
        </p:blipFill>
        <p:spPr>
          <a:xfrm>
            <a:off x="5334120" y="407664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ttahoochee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Begins in the Blue Ridge Mount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lows southwest towards Alabama and into the Gulf of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ortant for Georgians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1. Drinking Wa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2. hydroelectric pow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3. recre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871520" y="2211120"/>
            <a:ext cx="3814920" cy="39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Chattahoochee_watershed"/>
          <p:cNvPicPr/>
          <p:nvPr/>
        </p:nvPicPr>
        <p:blipFill>
          <a:blip r:embed="rId1"/>
          <a:stretch/>
        </p:blipFill>
        <p:spPr>
          <a:xfrm>
            <a:off x="4495680" y="2362320"/>
            <a:ext cx="4419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annah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Natural boundary between Georgia and South Carol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lows southeast into the Atlantic Oc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ortant for Georgians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1. Drinking Wa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2. hydroelectric pow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3. recre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71520" y="2363760"/>
            <a:ext cx="381492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savannahrivermap"/>
          <p:cNvPicPr/>
          <p:nvPr/>
        </p:nvPicPr>
        <p:blipFill>
          <a:blip r:embed="rId1"/>
          <a:stretch/>
        </p:blipFill>
        <p:spPr>
          <a:xfrm>
            <a:off x="4495680" y="2209680"/>
            <a:ext cx="435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Times New Roman"/>
              </a:rPr>
              <a:t>c. Locate and evaluate the importance of key physical features on the development of Georgia; include the Fall Line, Okefenokee Swamp, Appalachian Mountains, Chattahoochee and Savannah Rivers, and barrier islands.</a:t>
            </a:r>
            <a:br>
              <a:rPr sz="2100"/>
            </a:b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ier 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rrier islands are found along nearly the entire </a:t>
            </a:r>
            <a:r>
              <a:rPr b="1" lang="en-US" sz="2200" spc="-1" strike="noStrike">
                <a:solidFill>
                  <a:srgbClr val="92d050"/>
                </a:solidFill>
                <a:latin typeface="Arial"/>
              </a:rPr>
              <a:t>eastern seaboar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United Sta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They protect the mainland from stor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2d050"/>
                </a:solidFill>
                <a:latin typeface="Arial"/>
              </a:rPr>
              <a:t>Important for tourism, fishing, and paper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Georgia's Coast and Barrier Islands"/>
          <p:cNvPicPr/>
          <p:nvPr/>
        </p:nvPicPr>
        <p:blipFill>
          <a:blip r:embed="rId1"/>
          <a:stretch/>
        </p:blipFill>
        <p:spPr>
          <a:xfrm>
            <a:off x="4419720" y="205740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d. Evaluate the impact of climate on Georgia’s development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205848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ther – The day to day change of the earth’s atmosphere in regard to temperature, moisture, wind velocity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te – the average of weather patterns measured over a long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668320"/>
            <a:ext cx="3741840" cy="34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What is Ge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Geography</a:t>
            </a: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 – the science of studying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71520" y="2440080"/>
            <a:ext cx="3814920" cy="36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full-20earth2"/>
          <p:cNvPicPr/>
          <p:nvPr/>
        </p:nvPicPr>
        <p:blipFill>
          <a:blip r:embed="rId1"/>
          <a:stretch/>
        </p:blipFill>
        <p:spPr>
          <a:xfrm>
            <a:off x="4572000" y="2438280"/>
            <a:ext cx="4191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osing Questions (At the end of the note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14400" y="1600200"/>
          <a:ext cx="7772400" cy="36576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659400">
                <a:tc>
                  <a:txBody>
                    <a:bodyPr lIns="114480" rIns="114480" tIns="0" bIns="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is Georgia in terms of hemisphere, continent, nation, region and global position? (G1a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 North American physiographic regions are found in Georgia and what are some distinguishing characteristics of each? (G1b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relative location of these physiographic regions within the boundaries of the State? (G1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significant physical features of Georgia that have impacted its development and in what manner have the affected Georgia? (G1c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has climate played a role in Georgia’s development? (G1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</a:tbl>
          </a:graphicData>
        </a:graphic>
      </p:graphicFrame>
      <p:sp>
        <p:nvSpPr>
          <p:cNvPr id="208" name="TextBox 6"/>
          <p:cNvSpPr/>
          <p:nvPr/>
        </p:nvSpPr>
        <p:spPr>
          <a:xfrm>
            <a:off x="1295280" y="56386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2 out of the 5 to write and answer. Please ensure that you have a complete sentence. For example:  (if you answer #1: Georgia is in the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orgia’s Clim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orgia's climate varies from the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mountains</a:t>
            </a:r>
            <a:r>
              <a:rPr b="0" lang="en-US" sz="25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Coastal Plai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ach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mperate and influenced by Georgia's proximity (distance) to the Atlantic Ocean and the Gulf of Mexi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winter there are blasts of cold Arctic air coming southward from Canad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http://www.georgia.org/wp-content/uploads/2013/09/lifestyle_climate.jpg"/>
          <p:cNvPicPr/>
          <p:nvPr/>
        </p:nvPicPr>
        <p:blipFill>
          <a:blip r:embed="rId3"/>
          <a:stretch/>
        </p:blipFill>
        <p:spPr>
          <a:xfrm>
            <a:off x="4718160" y="2200320"/>
            <a:ext cx="3809880" cy="1409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http://www.aboutnorthgeorgia.com/images/blue_ridge_mountains.jpg"/>
          <p:cNvPicPr/>
          <p:nvPr/>
        </p:nvPicPr>
        <p:blipFill>
          <a:blip r:embed="rId4"/>
          <a:stretch/>
        </p:blipFill>
        <p:spPr>
          <a:xfrm>
            <a:off x="4984920" y="155520"/>
            <a:ext cx="3543120" cy="1676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http://www.gly.uga.edu/railsback/CTW/CTWSoybeans&amp;Cotton.jpeg"/>
          <p:cNvPicPr/>
          <p:nvPr/>
        </p:nvPicPr>
        <p:blipFill>
          <a:blip r:embed="rId5"/>
          <a:stretch/>
        </p:blipFill>
        <p:spPr>
          <a:xfrm>
            <a:off x="4646520" y="3860640"/>
            <a:ext cx="39592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7800" y="114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Georgia’s climate can be described as mild, temperate, or humid subtrop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Winters in Georgia are cool while summers are warm to h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Both the</a:t>
            </a: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 Piedmont and Coastal Plain regions have longer and hotter summers because of their location near/in between the warm waters of the Gulf of Mexico and the Atlantic Oc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https://sp.yimg.com/ib/th?id=JN.LcIfh1pM7QS9Zik1%2fjpebQ&amp;pid=15.1&amp;P=0"/>
          <p:cNvPicPr/>
          <p:nvPr/>
        </p:nvPicPr>
        <p:blipFill>
          <a:blip r:embed="rId1"/>
          <a:stretch/>
        </p:blipFill>
        <p:spPr>
          <a:xfrm>
            <a:off x="6480" y="-2133720"/>
            <a:ext cx="285732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https://sp.yimg.com/ib/th?id=JN.LcIfh1pM7QS9Zik1%2fjpebQ&amp;pid=15.1&amp;P=0"/>
          <p:cNvPicPr/>
          <p:nvPr/>
        </p:nvPicPr>
        <p:blipFill>
          <a:blip r:embed="rId2"/>
          <a:stretch/>
        </p:blipFill>
        <p:spPr>
          <a:xfrm>
            <a:off x="3733920" y="4361040"/>
            <a:ext cx="2857320" cy="18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28800" y="385920"/>
            <a:ext cx="77580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A County Ques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rections: Use page 602 in your textbook to help you answer the following questions on a sheet of pap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How many counties are there in Georgi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Identify the county in which you live 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Identify each county that borders the Atlantic Ocean and list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. Identify the counties of Georgia that border Florida and list th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 Which counties share more than one state border? Which states do these counties touc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2590560"/>
            <a:ext cx="3429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t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arallel lines that run east and west, but measure north and south locations on the earth’s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*Draw circle with a line in the middle from side to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3679920" y="1219320"/>
            <a:ext cx="4724280" cy="4267080"/>
          </a:xfrm>
          <a:prstGeom prst="rect">
            <a:avLst/>
          </a:prstGeom>
          <a:ln w="0">
            <a:noFill/>
          </a:ln>
        </p:spPr>
      </p:pic>
      <p:sp>
        <p:nvSpPr>
          <p:cNvPr id="111" name="Oval 1"/>
          <p:cNvSpPr/>
          <p:nvPr/>
        </p:nvSpPr>
        <p:spPr>
          <a:xfrm>
            <a:off x="4773600" y="5257800"/>
            <a:ext cx="2514600" cy="144792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3"/>
          <p:cNvSpPr/>
          <p:nvPr/>
        </p:nvSpPr>
        <p:spPr>
          <a:xfrm>
            <a:off x="4773600" y="598176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3276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it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ridian lines that run north and south, but measure east and west locations on the earth’s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*Draw circle with a line in the middle from top to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4648320" cy="4267440"/>
          </a:xfrm>
          <a:prstGeom prst="rect">
            <a:avLst/>
          </a:prstGeom>
          <a:ln w="0">
            <a:noFill/>
          </a:ln>
        </p:spPr>
      </p:pic>
      <p:sp>
        <p:nvSpPr>
          <p:cNvPr id="116" name="Oval 1"/>
          <p:cNvSpPr/>
          <p:nvPr/>
        </p:nvSpPr>
        <p:spPr>
          <a:xfrm>
            <a:off x="4775040" y="5562720"/>
            <a:ext cx="1600200" cy="1218960"/>
          </a:xfrm>
          <a:prstGeom prst="ellipse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3"/>
          <p:cNvSpPr/>
          <p:nvPr/>
        </p:nvSpPr>
        <p:spPr>
          <a:xfrm>
            <a:off x="5562720" y="5562720"/>
            <a:ext cx="126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84120"/>
            <a:ext cx="77724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66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The Equator and Prime Meridian divide the earth into hemisphere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mispheres – two halves of a 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867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S8G1 a.</a:t>
            </a:r>
            <a:r>
              <a:rPr b="0" lang="en-US" sz="3800" spc="-1" strike="noStrike">
                <a:solidFill>
                  <a:srgbClr val="ff3300"/>
                </a:solidFill>
                <a:latin typeface="Times New Roman"/>
              </a:rPr>
              <a:t> Locate Georgia in relation to region, nation, continent, and hemispheres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Quick Geography Review/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1. How many continents are on the earth’s surf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2. What continent is the state of Georgia located 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3. What nation is Georgia apart of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4. What are the major lines of latitude and longitude and what do they do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5. How many hemispheres are the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6. What hemisphere is the state of Georgia located in? (2 answ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8:48:43Z</dcterms:created>
  <dc:creator>Cobb County School District</dc:creator>
  <dc:description/>
  <dc:language>en-US</dc:language>
  <cp:lastModifiedBy>Nicka Grimes</cp:lastModifiedBy>
  <dcterms:modified xsi:type="dcterms:W3CDTF">2015-08-07T17:16:51Z</dcterms:modified>
  <cp:revision>42</cp:revision>
  <dc:subject/>
  <dc:title>Unit 1 Geography</dc:title>
</cp:coreProperties>
</file>